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0A39-72D4-4D81-9A7C-BD7326ADF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5232-679F-428C-9037-E97DB162B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0F1D-641F-4972-8C51-4A53C876A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8B8-2A30-4667-A41F-8D80EE8E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C16-0B6F-41FF-BA8B-41EE4308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D57-9CE1-4736-AADA-6F46B6FE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429-64CC-4154-8D36-EDD72CAA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2DCB-88C7-4F6D-AA86-4192F04A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EDC0-B8DE-4A90-9DE3-BC204356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4349-20B4-47DD-84A4-09CD3CB9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A893-EAD1-4D39-897B-2444F6CB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144B-75ED-4787-941C-83A5FE45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7A9F-6DAC-41A9-BEAE-4029AEDB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7F02-C985-4216-8AD1-913478B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69A-40C4-4ED9-86F6-AAB0A0AF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4274-5F4A-4367-8A39-EB7D162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7C6A-32C5-4281-B8B8-A00B39A5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A4DD-8D8F-48A9-BD0E-D627D79D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33EA-28A9-4566-A8D2-24AE82C9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5232-9D59-4220-A9A3-2CA28BE2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9929-B47D-4C10-A71B-BF888C6E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820D-50CE-47C3-BE4D-17692CA4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FFCB-1D4F-476A-970F-46C5159D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687C-AB87-48E6-902E-B73DA944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31B2-F8A8-4C3A-A783-3E484BB6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408-AA07-4FFF-9EEC-F0697826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6B4D-1F15-49C5-AE1F-12635CB0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46633-7C60-4E5F-800E-818FA943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C3E2-BFEC-445A-A357-FD3FFC4A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1E10-2658-4CFE-BD7C-2D14FE24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2D82C-3758-4C43-BBE4-7C272455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41C4-4F37-41F3-A2A8-750083F2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B71C-E50C-48B9-8502-2DDA9557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38390-8026-4E98-8702-EFE0FD52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A556-A083-4EFE-B0BC-66C48847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87D2-C046-4FD1-BBDE-9D7B2100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90E-3837-46EE-96E8-8C85F48E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766C9-A417-43F3-8E99-C2475AB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B1A9B-B055-42F8-B969-271FD563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ABF09-D36C-4947-842C-2B7B034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C890-7517-46B2-B538-DC92815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B444-AD4E-4EE4-84A6-5446E833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0601D-7BFD-4E0B-BF43-82CBE6F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DD78-C4BE-402A-ABC5-5D253B1A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FE28-5365-43F3-A9C7-878350AA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7DBAA-B60A-47FB-9790-AB01D238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D2151-6DC1-40C3-B4E1-995B021F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B01-81A5-4ED1-8819-D05466D7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4E34F-3BEC-4A32-A0CB-A4111C91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22774-950E-4F26-B773-DCD1EFBF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05789-9609-456E-8BA9-81F05079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615C-A058-47B2-A994-DDFEA5D7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FDBDC-AF5D-4948-9251-806BD89C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09659-CE7A-4D1D-8527-82F9B78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04DB-C3BD-444F-85E4-BDDE1E8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9A573-B968-45E0-A38F-39AD21AF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1611B-38F8-4443-8B72-D5B408D1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D5C87-9A28-4ACF-A188-3970ADE6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1AD-1D5F-4326-A162-6CEF6A83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D7BF1-9FD8-4A25-9AED-7AA86884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F20C-87F9-46BE-874A-27A1C00B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2E27-ACA9-4FC8-BD49-5420823C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86FA3-8A22-4F07-B06B-8827D911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66FA7-F6CE-4551-B8ED-0E91C3E2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A68FF-F633-42DF-9CE2-1C8661B7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92E9C-4AC6-4F36-9780-F94A542B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6DA3F-391D-460F-82FD-DDF6C73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92F59-6E9E-4C0D-9DFC-3538454E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DB5D-B2FD-45DE-B09C-C0A3C67A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397-E753-476C-B1EA-C7C0627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9F9B2-3916-40C3-9BCE-3FD77A1A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D7011-501A-45A1-9F26-7B42D3FC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516D9-D3E6-4E3D-9787-0A6484AB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F5006-9B86-44A9-940B-F875E88A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F4C5B-B6B5-48EF-B85F-E3C2EB5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60CC5-D8B6-46DB-A3FD-401C882F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B168A-749A-4E93-8CEA-FA11CDB6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87A3F-C39C-4456-BBFA-6CD3D9DC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05A08-0D85-4FD2-A8EC-5C6D79B5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A2F62-FC43-470C-8DF2-83DD186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AEA-90BF-4217-A339-AECE791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2D077-830B-45D4-87E3-B30EB15A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75A7-7AF0-440D-9D69-FA6A051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110B-E354-437D-ADFE-0E297D6A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7D05F-7AD0-4969-81D1-0126A247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AF6DA-C74E-4367-8B14-FF62CCDF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CFBB0-F1EC-49E0-83B0-9923C469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BB59-CCB7-4C79-874A-D594FFB8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21A25-5E06-48E2-B660-CC6B24B3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075BC-948A-4A08-896F-DB836019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B1A7-546B-405F-8372-E566D1C9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929-18E6-426D-A05C-451FF431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220F1-93FB-4B00-9D57-CA734D8B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46A12-6832-4C59-840F-5E4B6EA3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98124-E852-4EFE-B2C3-C2D30F45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C1D35-B162-46E8-AD2D-DC08BC5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CBDC6-059D-48E4-9FF5-5681F62C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55595-001B-42F9-AA90-01D67074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11907-31D0-4A45-BB53-29514406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5333-774D-4FA9-A8A1-8039B7E0B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18F3-2DB7-4C85-91E2-3470A90047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D6ED-4F57-4831-97BA-02B2C1A6CD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7F19-23EE-4690-AD9F-35B2129FE5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7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35BA-FB9D-49FE-B593-32334AA222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9B14-E39C-4F08-A667-F9B5BD3E7D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F343-17EB-4752-B7E0-ADCA259F0D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7CF1-AD99-4CB4-97EE-6D2000EDFF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0" y="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da 4-4 &amp; 5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Finish Blabberize Bi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0" y="1828800"/>
            <a:ext cx="9144000" cy="1620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4-4 &amp; 5-12  Use your Timeline on the “Jeopardy: Middle Ages” hand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id Rome fa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vent help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Dark Age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2593080" y="22017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.D. 4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262480" y="2487600"/>
            <a:ext cx="38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usades; it helped in opening up trade and the exchange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The Siege of Antioch, from a medieval miniature painting, during the First Crusade."/>
          <p:cNvPicPr/>
          <p:nvPr/>
        </p:nvPicPr>
        <p:blipFill>
          <a:blip r:embed="rId1"/>
          <a:stretch/>
        </p:blipFill>
        <p:spPr>
          <a:xfrm>
            <a:off x="0" y="3222720"/>
            <a:ext cx="2971800" cy="363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" descr="The Middle Ages:  What was it &#13;&#10;really like to live in the Middle Ages?"/>
          <p:cNvPicPr/>
          <p:nvPr/>
        </p:nvPicPr>
        <p:blipFill>
          <a:blip r:embed="rId2"/>
          <a:srcRect l="14548" t="0" r="15634" b="27279"/>
          <a:stretch/>
        </p:blipFill>
        <p:spPr>
          <a:xfrm>
            <a:off x="2666880" y="304920"/>
            <a:ext cx="4191120" cy="1447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Image:Plague victims blessed by priest.jpg"/>
          <p:cNvPicPr/>
          <p:nvPr/>
        </p:nvPicPr>
        <p:blipFill>
          <a:blip r:embed="rId3"/>
          <a:srcRect l="12684" t="12602" r="11197" b="12602"/>
          <a:stretch/>
        </p:blipFill>
        <p:spPr>
          <a:xfrm>
            <a:off x="3048120" y="3200400"/>
            <a:ext cx="353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crusades"/>
          <p:cNvPicPr/>
          <p:nvPr/>
        </p:nvPicPr>
        <p:blipFill>
          <a:blip r:embed="rId1"/>
          <a:stretch/>
        </p:blipFill>
        <p:spPr>
          <a:xfrm>
            <a:off x="2362320" y="838080"/>
            <a:ext cx="4608360" cy="4461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rusa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57200" y="5029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e4df"/>
                </a:solidFill>
                <a:latin typeface="Tahoma"/>
              </a:rPr>
              <a:t>Around A.D. 1000, Muslims in Jerusalem no longer welcomed Christians visitors. The Christians went on several journeys to try to capture Jerusalem. These journeys were called the Crusad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Christians made long difficult journeys to Jerusalem during the Crusades.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7" name="Picture 6" descr="map_of_Crusades2"/>
          <p:cNvPicPr/>
          <p:nvPr/>
        </p:nvPicPr>
        <p:blipFill>
          <a:blip r:embed="rId1"/>
          <a:stretch/>
        </p:blipFill>
        <p:spPr>
          <a:xfrm>
            <a:off x="1525680" y="1600200"/>
            <a:ext cx="609264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9" name="Content Placeholder 3" descr="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te Middle Ag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200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Black Deat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vastating worldwide pandemic first struck Europe in the mid 1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killed about a third of Europe’s population, an estimated 34 million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Picture 4" descr="stinnocents1"/>
          <p:cNvPicPr/>
          <p:nvPr/>
        </p:nvPicPr>
        <p:blipFill>
          <a:blip r:embed="rId1"/>
          <a:stretch/>
        </p:blipFill>
        <p:spPr>
          <a:xfrm>
            <a:off x="2971800" y="1689120"/>
            <a:ext cx="60199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59436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ubonic Plag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907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ed “black death” because a sufferers' skin would blacken due to hemorrhages under the 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read by fleas and r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inful lymph node swellings called buboes that ooze pus and bl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mage to the skin and underlying tissue until they were covered in dark blot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victims died within four to seven days after infe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d massive depopulation 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 in social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ened influence of Chu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iginated in Asia but was blamed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ws and le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9840" indent="-39024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4" descr="rhooke_flea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93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plague_art"/>
          <p:cNvPicPr/>
          <p:nvPr/>
        </p:nvPicPr>
        <p:blipFill>
          <a:blip r:embed="rId2"/>
          <a:stretch/>
        </p:blipFill>
        <p:spPr>
          <a:xfrm>
            <a:off x="5715000" y="4724280"/>
            <a:ext cx="3200400" cy="1941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bubo"/>
          <p:cNvPicPr/>
          <p:nvPr/>
        </p:nvPicPr>
        <p:blipFill>
          <a:blip r:embed="rId3"/>
          <a:stretch/>
        </p:blipFill>
        <p:spPr>
          <a:xfrm>
            <a:off x="6324480" y="2590920"/>
            <a:ext cx="25909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dance_of_death"/>
          <p:cNvPicPr/>
          <p:nvPr/>
        </p:nvPicPr>
        <p:blipFill>
          <a:blip r:embed="rId1"/>
          <a:stretch/>
        </p:blipFill>
        <p:spPr>
          <a:xfrm>
            <a:off x="0" y="1198440"/>
            <a:ext cx="92962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plaguemap"/>
          <p:cNvPicPr/>
          <p:nvPr/>
        </p:nvPicPr>
        <p:blipFill>
          <a:blip r:embed="rId1"/>
          <a:stretch/>
        </p:blipFill>
        <p:spPr>
          <a:xfrm>
            <a:off x="1143000" y="762120"/>
            <a:ext cx="7031160" cy="5397480"/>
          </a:xfrm>
          <a:prstGeom prst="rect">
            <a:avLst/>
          </a:prstGeom>
          <a:ln w="0">
            <a:noFill/>
          </a:ln>
        </p:spPr>
      </p:pic>
      <p:sp>
        <p:nvSpPr>
          <p:cNvPr id="380" name="Action Button: Information 2"/>
          <p:cNvSpPr/>
          <p:nvPr/>
        </p:nvSpPr>
        <p:spPr>
          <a:xfrm>
            <a:off x="7543800" y="5486400"/>
            <a:ext cx="662040" cy="6858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21600" h="22375">
                <a:moveTo>
                  <a:pt x="0" y="0"/>
                </a:moveTo>
                <a:lnTo>
                  <a:pt x="21600" y="0"/>
                </a:lnTo>
                <a:lnTo>
                  <a:pt x="21600" y="22375"/>
                </a:lnTo>
                <a:lnTo>
                  <a:pt x="0" y="22375"/>
                </a:lnTo>
                <a:close/>
              </a:path>
              <a:path fill="lightenLess" w="21600" h="2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5">
                <a:moveTo>
                  <a:pt x="21600" y="0"/>
                </a:moveTo>
                <a:lnTo>
                  <a:pt x="21600" y="22375"/>
                </a:lnTo>
                <a:lnTo>
                  <a:pt x="20200" y="20975"/>
                </a:lnTo>
                <a:lnTo>
                  <a:pt x="20200" y="1400"/>
                </a:lnTo>
                <a:close/>
              </a:path>
              <a:path fill="darkenLess" w="21600" h="22375">
                <a:moveTo>
                  <a:pt x="21600" y="22375"/>
                </a:moveTo>
                <a:lnTo>
                  <a:pt x="0" y="22375"/>
                </a:lnTo>
                <a:lnTo>
                  <a:pt x="1400" y="20975"/>
                </a:lnTo>
                <a:lnTo>
                  <a:pt x="20200" y="20975"/>
                </a:lnTo>
                <a:close/>
              </a:path>
              <a:path fill="lighten" w="21600" h="22375">
                <a:moveTo>
                  <a:pt x="0" y="2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5"/>
                </a:lnTo>
                <a:close/>
              </a:path>
              <a:path fill="darken" w="21600" h="22375">
                <a:moveTo>
                  <a:pt x="10800" y="418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375">
                <a:moveTo>
                  <a:pt x="10800" y="455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375">
                <a:moveTo>
                  <a:pt x="8224" y="8611"/>
                </a:moveTo>
                <a:lnTo>
                  <a:pt x="12088" y="8611"/>
                </a:lnTo>
                <a:lnTo>
                  <a:pt x="12088" y="15609"/>
                </a:lnTo>
                <a:lnTo>
                  <a:pt x="13376" y="15609"/>
                </a:lnTo>
                <a:lnTo>
                  <a:pt x="13376" y="16531"/>
                </a:lnTo>
                <a:lnTo>
                  <a:pt x="8224" y="16531"/>
                </a:lnTo>
                <a:lnTo>
                  <a:pt x="8224" y="15609"/>
                </a:lnTo>
                <a:lnTo>
                  <a:pt x="9512" y="15609"/>
                </a:lnTo>
                <a:lnTo>
                  <a:pt x="9512" y="9516"/>
                </a:lnTo>
                <a:lnTo>
                  <a:pt x="8224" y="951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flea"/>
          <p:cNvPicPr/>
          <p:nvPr/>
        </p:nvPicPr>
        <p:blipFill>
          <a:blip r:embed="rId2"/>
          <a:stretch/>
        </p:blipFill>
        <p:spPr>
          <a:xfrm>
            <a:off x="1143000" y="5486400"/>
            <a:ext cx="8636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0:52:30Z</dcterms:created>
  <dc:creator>Selena Ramsey</dc:creator>
  <dc:description/>
  <dc:language>en-US</dc:language>
  <cp:lastModifiedBy>poweruser</cp:lastModifiedBy>
  <dcterms:modified xsi:type="dcterms:W3CDTF">2012-04-04T18:45:22Z</dcterms:modified>
  <cp:revision>41</cp:revision>
  <dc:subject/>
  <dc:title>Slide 1</dc:title>
</cp:coreProperties>
</file>